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6A3-EF35-4886-B4FA-D9A1E37F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DE-1E3E-4B84-BE60-C68FA3EC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0F6-A617-48F7-A02C-6032BFEB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7D69-E041-49C5-85DE-8F6B174E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C34-D424-4AFE-9110-C12FDF3C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2D6-EFCB-4A11-B2FC-4C01376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5EC-FA2B-4463-A398-42540BB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D43-31F4-4070-A97E-9CA6629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A24-0AAB-47B1-8482-A35656D2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8A4-A60A-482D-9D63-4F5F52C6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7ED-6538-4C39-B280-723591A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6AD-5874-4FE7-9E72-F7645254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D88-A92B-4577-97EC-BA93D615A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46905"/>
          <a:stretch/>
        </p:blipFill>
        <p:spPr>
          <a:xfrm>
            <a:off x="27000" y="609480"/>
            <a:ext cx="6858000" cy="741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53432" r="0" b="0"/>
          <a:stretch/>
        </p:blipFill>
        <p:spPr>
          <a:xfrm>
            <a:off x="115920" y="826920"/>
            <a:ext cx="659772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81000" y="468360"/>
            <a:ext cx="4824360" cy="439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5292720"/>
            <a:ext cx="5832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gen plannu hadau ar y gwely blod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pob pecyn yn gorchuddio 1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c yn costio 50c y pecy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awl pecyn a beth yw’r pri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6640" y="324000"/>
            <a:ext cx="2592360" cy="46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36:29Z</dcterms:created>
  <dc:creator>Betsan Thomas</dc:creator>
  <dc:description/>
  <dc:language>en-US</dc:language>
  <cp:lastModifiedBy>Betsan Thomas</cp:lastModifiedBy>
  <dcterms:modified xsi:type="dcterms:W3CDTF">2007-05-08T19:43:59Z</dcterms:modified>
  <cp:revision>2</cp:revision>
  <dc:subject/>
  <dc:title>Slide 1</dc:title>
</cp:coreProperties>
</file>